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6E01-0223-4265-8CFC-539332E69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484D-F9D2-4A80-9B2F-7290C4EB6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O APPOINT A TI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B. Might not even get to bother with powerpoint this session as it will be quite a rus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D884-F5F9-4951-9165-5884B989C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tors may wish to address some common issues and suggest some action points for nex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6CFB-6E10-46D8-827A-AFB9A816C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3FBD-65F1-4442-A5B8-F42C8F05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0C9-F056-44E3-B74F-00E6C93F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02B3-9681-4D31-834E-8259D044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FB2-65CB-429E-95E0-435F9500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C201-B929-4E38-8101-6E6296BF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0A4-426B-456D-B080-224ECC5C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F49-C222-49ED-A87B-C6380528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D79-5919-4111-8C11-D9826613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615-2856-4EF9-AA26-3DD91039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8A8-BF00-4941-A6BD-F03CBC39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6AB-C521-4A6E-A132-385E3369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52BD-3592-4879-A4B6-147DF139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17C1-AE1C-4FC6-B71D-A2B47BA6F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AL COMMUNICATION SKILLS for Maths &amp; 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2 – Formative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LU - Logo - Full Colour (CMYK) Logo 1"/>
          <p:cNvPicPr/>
          <p:nvPr/>
        </p:nvPicPr>
        <p:blipFill>
          <a:blip r:embed="rId1"/>
          <a:stretch/>
        </p:blipFill>
        <p:spPr>
          <a:xfrm>
            <a:off x="7199280" y="431640"/>
            <a:ext cx="1440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your team extract information from an article and present the key facts to the rest of th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fferent article for each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NL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1 minute per person presentation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utor feedback for each presenter based on assessment criteria – you will receive as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oup to group feedback – grade &amp; few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LU - Logo - Full Colour (CMYK) Logo 1"/>
          <p:cNvPicPr/>
          <p:nvPr/>
        </p:nvPicPr>
        <p:blipFill>
          <a:blip r:embed="rId1"/>
          <a:stretch/>
        </p:blipFill>
        <p:spPr>
          <a:xfrm>
            <a:off x="7199280" y="431640"/>
            <a:ext cx="1440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 feedback 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LU - Logo - Full Colour (CMYK) Logo 1"/>
          <p:cNvPicPr/>
          <p:nvPr/>
        </p:nvPicPr>
        <p:blipFill>
          <a:blip r:embed="rId1"/>
          <a:stretch/>
        </p:blipFill>
        <p:spPr>
          <a:xfrm>
            <a:off x="7199280" y="431640"/>
            <a:ext cx="1440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ess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resenting with Confidenc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come ner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 your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what you’re saying and make sure the audience does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LU - Logo - Full Colour (CMYK) Logo 1"/>
          <p:cNvPicPr/>
          <p:nvPr/>
        </p:nvPicPr>
        <p:blipFill>
          <a:blip r:embed="rId1"/>
          <a:stretch/>
        </p:blipFill>
        <p:spPr>
          <a:xfrm>
            <a:off x="7199280" y="431640"/>
            <a:ext cx="1440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4:42:02Z</dcterms:created>
  <dc:creator>Pete_Eileen</dc:creator>
  <dc:description/>
  <dc:language>en-US</dc:language>
  <cp:lastModifiedBy>korzenio</cp:lastModifiedBy>
  <dcterms:modified xsi:type="dcterms:W3CDTF">2011-12-22T14:35:46Z</dcterms:modified>
  <cp:revision>70</cp:revision>
  <dc:subject/>
  <dc:title>ORAL COMMUNICATION SKILLS  for Maths &amp; Statistics Session 1 – 3rd June 2011</dc:title>
</cp:coreProperties>
</file>