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1C2F-A4A2-4525-ADCC-B3C66E902B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point may not be necessary for this session as the focus will be on presentations – but use this if you want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tors may wish to remind students of some general poi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g. keep to time, don’t just read off notes, etc, et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6285-5F1C-47D8-84A9-70DBF6C58E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tor may wish to add some general group feedbac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8594-79B9-409F-8A1D-1A81773AAB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832D-54B1-4884-B5A8-C2FDD341E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68F4-8C50-4308-A14D-14E824AF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4749-1E9B-48D0-861B-8DA3F0620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DA64-4D1F-4C8F-92D0-F9A17440B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B586-6801-49BA-A8D3-7500BFC1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E027-A9DE-4A6D-AEBB-E118036F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A327-7511-44F8-BC5F-F40640CB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409F-63AF-4D9C-AAE2-B6DEA552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F4A9-FD9E-48EB-9A92-B21E347B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317E-1117-47E3-81D6-2869A9DA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6249-2D3C-40C1-A9E3-43ACC63E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41BC-875B-44F1-811A-B9D2FA1A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644C-0F68-4F4F-93B5-11A5E8EF3C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AL COMMUNICATION SKILLS for Maths &amp; Statis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sion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LU - Logo - Full Colour (CMYK) Logo 1"/>
          <p:cNvPicPr/>
          <p:nvPr/>
        </p:nvPicPr>
        <p:blipFill>
          <a:blip r:embed="rId1"/>
          <a:stretch/>
        </p:blipFill>
        <p:spPr>
          <a:xfrm>
            <a:off x="7199280" y="431640"/>
            <a:ext cx="144000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s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ATIVE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reminders: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LU - Logo - Full Colour (CMYK) Logo 1"/>
          <p:cNvPicPr/>
          <p:nvPr/>
        </p:nvPicPr>
        <p:blipFill>
          <a:blip r:embed="rId1"/>
          <a:stretch/>
        </p:blipFill>
        <p:spPr>
          <a:xfrm>
            <a:off x="7199280" y="431640"/>
            <a:ext cx="144000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LU - Logo - Full Colour (CMYK) Logo 1"/>
          <p:cNvPicPr/>
          <p:nvPr/>
        </p:nvPicPr>
        <p:blipFill>
          <a:blip r:embed="rId1"/>
          <a:stretch/>
        </p:blipFill>
        <p:spPr>
          <a:xfrm>
            <a:off x="7199280" y="431640"/>
            <a:ext cx="144000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4:42:02Z</dcterms:created>
  <dc:creator>Pete_Eileen</dc:creator>
  <dc:description/>
  <dc:language>en-US</dc:language>
  <cp:lastModifiedBy>korzenio</cp:lastModifiedBy>
  <dcterms:modified xsi:type="dcterms:W3CDTF">2011-12-22T15:35:25Z</dcterms:modified>
  <cp:revision>64</cp:revision>
  <dc:subject/>
  <dc:title>ORAL COMMUNICATION SKILLS  for Maths &amp; Statistics Session 1 – 3rd June 2011</dc:title>
</cp:coreProperties>
</file>